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10699750" cy="7556500"/>
  <p:notesSz cx="7556500" cy="10699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556400" cy="106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AutoShape 1"/>
          <p:cNvSpPr/>
          <p:nvPr/>
        </p:nvSpPr>
        <p:spPr>
          <a:xfrm>
            <a:off x="0" y="0"/>
            <a:ext cx="7556400" cy="1069992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9920"/>
              <a:gd name="textAreaBottom" fmla="*/ 10699560 h 10699920"/>
            </a:gdLst>
            <a:ahLst/>
            <a:rect l="textAreaLeft" t="textAreaTop" r="textAreaRight" b="textAreaBottom"/>
            <a:pathLst>
              <a:path w="21600" h="30585">
                <a:moveTo>
                  <a:pt x="4" y="0"/>
                </a:moveTo>
                <a:arcTo wR="4" hR="4" stAng="16200000" swAng="-5400000"/>
                <a:lnTo>
                  <a:pt x="0" y="30581"/>
                </a:lnTo>
                <a:arcTo wR="4" hR="4" stAng="10800000" swAng="-5400000"/>
                <a:lnTo>
                  <a:pt x="21596" y="3058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0" y="0"/>
            <a:ext cx="3274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dt" idx="22"/>
          </p:nvPr>
        </p:nvSpPr>
        <p:spPr>
          <a:xfrm>
            <a:off x="4280040" y="0"/>
            <a:ext cx="327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ldImg"/>
          </p:nvPr>
        </p:nvSpPr>
        <p:spPr>
          <a:xfrm>
            <a:off x="938160" y="802800"/>
            <a:ext cx="5678640" cy="4010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body"/>
          </p:nvPr>
        </p:nvSpPr>
        <p:spPr>
          <a:xfrm>
            <a:off x="755640" y="5083200"/>
            <a:ext cx="60436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0" y="10163160"/>
            <a:ext cx="3274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sldNum" idx="23"/>
          </p:nvPr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635AF4-2B95-4C57-A622-5C3E1474CD8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A03FCD-9302-4583-A30F-3EB63F01BA6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8F714D-71F2-4299-A2BD-9CE5D072E1C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B8F474-7D09-421B-B96D-A8B0793C65E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725BE3-E224-43FA-8357-126B5D53D74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BB42E1-F4C9-4345-918A-136990E17D8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B72AEC-AA39-4A5F-8DB7-668300759F6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0034-126D-4A36-8655-3EE73BDE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101E-695C-4697-B088-624CA766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5ACA-98C0-4B45-9C63-EDD19E7A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BB4D-982A-4A4C-9E9D-47418FFB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927F-1B10-4274-857E-49C8A4C2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0BF5-79DD-41EE-9FE0-4F772A51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4246-8210-4848-B626-7A2DD052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C884-695F-416B-A468-22B1BE17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2006-F92A-49DC-A161-8591374A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0973-102F-4F3B-90E6-EB235572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FB13-9147-412B-A786-92B61827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6421-4B89-4685-B6AE-BEB8849E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0ADD-9162-41A5-AF83-79189277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750D-BF0E-4EB0-963F-D0B11C10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05B8-EA45-4310-A112-243F0BEB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5B7C-29B2-4F1B-BB7A-FCF18DA1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0793-376A-44B7-A998-C984499E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D474A-F81E-48E9-A21A-B6A1DF35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1E0A29-3E2B-4F41-AED4-1887D30B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2F05F2-17A7-4087-A3B5-440E1EC4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DB1CC5-2CEC-4B85-B01F-720F0389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1208CE-0D83-462C-A16C-B479C21F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82B9-9999-4D99-98CA-421B4B45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BAD61F-FD79-45B2-A332-AF02690E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6F6F05-9DBA-4C76-B1E4-8A1C8970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3D33F-20BA-4C0F-A931-5D055EE7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B79605-7452-435D-A418-89C3C1F9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99C237-F55B-4458-8FD7-D7C1D7F3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296CF6-1B5E-4309-8C28-2B92FBFA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B5C003-C52F-4A9B-BBA1-5F822288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84F46-374A-4218-8668-D5BC3331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CFDA6-22BB-45A4-B333-4317B086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362A8-5CB3-4658-B7BE-3447B13F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ECFE-0138-4FCB-89F6-25E3D179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36E1F-EA3B-4633-9A39-59BA4ABF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B50A7-5BBC-4969-9725-C21EEB80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9243C-73E1-4015-A30D-63DE8AFD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B9F38-9F6E-4333-A3D4-0993B1CC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701F6-F7B9-4D7A-B82A-6B8943E7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FAA02-94FF-4DA1-A0D6-A0E8254B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47A26-DA48-4AAA-A064-660ED9C2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D94AB-F5D8-4545-8B83-60A4CE9E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7B305-6FEF-45C6-9B8A-24DCC025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B1B14F-C751-49F3-B343-8F3B4D5F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4B3D-5229-462E-A262-507A1EDB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466A45-1DFD-4A1D-BBB6-806AA9F5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BD9DE3-F511-490C-9B2C-F64FB1CE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172C74-36A3-4B68-BACC-BF4FBE55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7CAB35-0C17-47EE-85EE-D28819BE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AF23CF-F92A-488C-B61E-6E86C9AE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531A40-3A96-48C4-9E27-8A99AD85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BE867C-1C8B-40ED-95A1-B565742F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22092E-A5F6-4BA5-BD7B-CAB90A68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29C9D0-3586-4155-BDD3-6F4584E8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04C45E-88D1-4AFB-BCB5-EFDD561C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E366-F310-4094-A0DC-84F294AA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3C2A03-EFA9-4132-9076-183AD54D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689345-CC9E-4E92-B4B7-4407CF0E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ED2F30-E749-47D8-B1B2-2962BF3E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51E70A-A145-4BBB-BADB-28ACEA31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F8EE0B-5DF5-4466-A740-754D1563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C589E7-55E0-4931-B4F3-AF6D8F3E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01E291-9197-4D0A-84F2-B00C7EF8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DB4716-B923-4254-8CC5-F6D4F038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1FD514-37EC-41BC-A624-673771B3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E4A340-DE95-4E7C-82BE-7CA11193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5FD6-D18C-4AA0-BA8D-8BDE4E04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276E97-2C7F-40D6-8F51-538FCE7F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0C8346-B298-41A5-AE7A-3E163D65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32218F-2938-4394-B7C3-7D557D8D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660A0E-179C-4D14-816D-7C6BE00E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F93A30-707E-4F26-AF1A-9AD374E4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40F148-32E7-496F-84E4-AFC8A78A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69D97F-E542-42DD-A48E-79CDD356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290A61-C4BF-42C7-AC29-B6D7DDC6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52A430-A72C-4D4C-BA07-3A19E013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8DD9F0-03CC-4200-9CCD-34DFB8BA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14BA-ABD0-4248-B01D-486DBF10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6D4470-7AC6-4918-B777-9D279750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BBD474-04E7-487A-8560-32433EBA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78C1F7-D245-4983-BEEA-DA8F449F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6629E6-F91D-407B-B0E1-99602141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4CD40E-15BD-46DB-ABC8-B9B9BFF9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561F-66F5-4615-97BB-9EFE4207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BFD561-0FE1-496D-8D3D-76690427B82C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2"/>
          <p:cNvSpPr/>
          <p:nvPr/>
        </p:nvSpPr>
        <p:spPr>
          <a:xfrm>
            <a:off x="446040" y="0"/>
            <a:ext cx="712800" cy="75564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Retângulo 14"/>
          <p:cNvSpPr/>
          <p:nvPr/>
        </p:nvSpPr>
        <p:spPr>
          <a:xfrm>
            <a:off x="324000" y="0"/>
            <a:ext cx="122040" cy="75564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tângulo 16"/>
          <p:cNvSpPr/>
          <p:nvPr/>
        </p:nvSpPr>
        <p:spPr>
          <a:xfrm>
            <a:off x="1158840" y="0"/>
            <a:ext cx="212760" cy="75564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tângulo 17"/>
          <p:cNvSpPr/>
          <p:nvPr/>
        </p:nvSpPr>
        <p:spPr>
          <a:xfrm>
            <a:off x="1335240" y="0"/>
            <a:ext cx="269640" cy="75564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Conector reto 18"/>
          <p:cNvSpPr/>
          <p:nvPr/>
        </p:nvSpPr>
        <p:spPr>
          <a:xfrm>
            <a:off x="123840" y="0"/>
            <a:ext cx="0" cy="75564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Conector reto 19"/>
          <p:cNvSpPr/>
          <p:nvPr/>
        </p:nvSpPr>
        <p:spPr>
          <a:xfrm>
            <a:off x="1069920" y="0"/>
            <a:ext cx="0" cy="75564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Conector reto 20"/>
          <p:cNvSpPr/>
          <p:nvPr/>
        </p:nvSpPr>
        <p:spPr>
          <a:xfrm>
            <a:off x="100008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Conector reto 23"/>
          <p:cNvSpPr/>
          <p:nvPr/>
        </p:nvSpPr>
        <p:spPr>
          <a:xfrm>
            <a:off x="2021040" y="0"/>
            <a:ext cx="0" cy="75564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Conector reto 24"/>
          <p:cNvSpPr/>
          <p:nvPr/>
        </p:nvSpPr>
        <p:spPr>
          <a:xfrm>
            <a:off x="1247760" y="0"/>
            <a:ext cx="0" cy="75564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Conector reto 25"/>
          <p:cNvSpPr/>
          <p:nvPr/>
        </p:nvSpPr>
        <p:spPr>
          <a:xfrm>
            <a:off x="1066500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tângulo 26"/>
          <p:cNvSpPr/>
          <p:nvPr/>
        </p:nvSpPr>
        <p:spPr>
          <a:xfrm>
            <a:off x="1427040" y="0"/>
            <a:ext cx="88920" cy="75564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Elipse 27"/>
          <p:cNvSpPr/>
          <p:nvPr/>
        </p:nvSpPr>
        <p:spPr>
          <a:xfrm>
            <a:off x="712800" y="3778200"/>
            <a:ext cx="1515960" cy="1427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Elipse 28"/>
          <p:cNvSpPr/>
          <p:nvPr/>
        </p:nvSpPr>
        <p:spPr>
          <a:xfrm>
            <a:off x="1531800" y="5362560"/>
            <a:ext cx="750960" cy="7063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Elipse 29"/>
          <p:cNvSpPr/>
          <p:nvPr/>
        </p:nvSpPr>
        <p:spPr>
          <a:xfrm>
            <a:off x="1276200" y="6060960"/>
            <a:ext cx="160560" cy="1508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Elipse 30"/>
          <p:cNvSpPr/>
          <p:nvPr/>
        </p:nvSpPr>
        <p:spPr>
          <a:xfrm>
            <a:off x="1947960" y="6377040"/>
            <a:ext cx="320400" cy="3031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Elipse 31"/>
          <p:cNvSpPr/>
          <p:nvPr/>
        </p:nvSpPr>
        <p:spPr>
          <a:xfrm>
            <a:off x="2228760" y="4952880"/>
            <a:ext cx="428760" cy="4032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9163800" y="1280160"/>
            <a:ext cx="2517840" cy="446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8406000" y="4594320"/>
            <a:ext cx="40305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550880" y="5430600"/>
            <a:ext cx="7128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D0438C6-B7E3-4009-B7F8-3067E2D13DD5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8C3121-E119-4FB6-B2F1-A0747E256BF5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2"/>
          <p:cNvSpPr/>
          <p:nvPr/>
        </p:nvSpPr>
        <p:spPr>
          <a:xfrm>
            <a:off x="446040" y="0"/>
            <a:ext cx="712800" cy="75564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Retângulo 14"/>
          <p:cNvSpPr/>
          <p:nvPr/>
        </p:nvSpPr>
        <p:spPr>
          <a:xfrm>
            <a:off x="324000" y="0"/>
            <a:ext cx="122040" cy="75564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Retângulo 16"/>
          <p:cNvSpPr/>
          <p:nvPr/>
        </p:nvSpPr>
        <p:spPr>
          <a:xfrm>
            <a:off x="1158840" y="0"/>
            <a:ext cx="212760" cy="75564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tângulo 17"/>
          <p:cNvSpPr/>
          <p:nvPr/>
        </p:nvSpPr>
        <p:spPr>
          <a:xfrm>
            <a:off x="1335240" y="0"/>
            <a:ext cx="269640" cy="75564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Conector reto 18"/>
          <p:cNvSpPr/>
          <p:nvPr/>
        </p:nvSpPr>
        <p:spPr>
          <a:xfrm>
            <a:off x="123840" y="0"/>
            <a:ext cx="0" cy="75564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Conector reto 19"/>
          <p:cNvSpPr/>
          <p:nvPr/>
        </p:nvSpPr>
        <p:spPr>
          <a:xfrm>
            <a:off x="1069920" y="0"/>
            <a:ext cx="0" cy="75564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Conector reto 20"/>
          <p:cNvSpPr/>
          <p:nvPr/>
        </p:nvSpPr>
        <p:spPr>
          <a:xfrm>
            <a:off x="100008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Conector reto 23"/>
          <p:cNvSpPr/>
          <p:nvPr/>
        </p:nvSpPr>
        <p:spPr>
          <a:xfrm>
            <a:off x="2021040" y="0"/>
            <a:ext cx="0" cy="75564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Conector reto 24"/>
          <p:cNvSpPr/>
          <p:nvPr/>
        </p:nvSpPr>
        <p:spPr>
          <a:xfrm>
            <a:off x="1247760" y="0"/>
            <a:ext cx="0" cy="75564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tângulo 25"/>
          <p:cNvSpPr/>
          <p:nvPr/>
        </p:nvSpPr>
        <p:spPr>
          <a:xfrm>
            <a:off x="1427040" y="0"/>
            <a:ext cx="88920" cy="75564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Elipse 26"/>
          <p:cNvSpPr/>
          <p:nvPr/>
        </p:nvSpPr>
        <p:spPr>
          <a:xfrm>
            <a:off x="712800" y="3778200"/>
            <a:ext cx="1515960" cy="1427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Elipse 27"/>
          <p:cNvSpPr/>
          <p:nvPr/>
        </p:nvSpPr>
        <p:spPr>
          <a:xfrm>
            <a:off x="1549440" y="5362560"/>
            <a:ext cx="750960" cy="7063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Elipse 28"/>
          <p:cNvSpPr/>
          <p:nvPr/>
        </p:nvSpPr>
        <p:spPr>
          <a:xfrm>
            <a:off x="1276200" y="6060960"/>
            <a:ext cx="160560" cy="1508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Elipse 29"/>
          <p:cNvSpPr/>
          <p:nvPr/>
        </p:nvSpPr>
        <p:spPr>
          <a:xfrm>
            <a:off x="1947960" y="6381720"/>
            <a:ext cx="320400" cy="301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Elipse 30"/>
          <p:cNvSpPr/>
          <p:nvPr/>
        </p:nvSpPr>
        <p:spPr>
          <a:xfrm>
            <a:off x="2198520" y="4935600"/>
            <a:ext cx="428760" cy="4032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Conector reto 31"/>
          <p:cNvSpPr/>
          <p:nvPr/>
        </p:nvSpPr>
        <p:spPr>
          <a:xfrm>
            <a:off x="10645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9161280" y="1276200"/>
            <a:ext cx="2519280" cy="446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8406000" y="4591080"/>
            <a:ext cx="40305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568520" y="5430600"/>
            <a:ext cx="7128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EEC2ED-2478-408E-A287-FD526721C8D0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4F3B72-1AAC-420F-A18B-D598C033AAFB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2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Conector reto 14"/>
          <p:cNvSpPr/>
          <p:nvPr/>
        </p:nvSpPr>
        <p:spPr>
          <a:xfrm>
            <a:off x="731196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Conector reto 17"/>
          <p:cNvSpPr/>
          <p:nvPr/>
        </p:nvSpPr>
        <p:spPr>
          <a:xfrm>
            <a:off x="7245360" y="0"/>
            <a:ext cx="0" cy="75564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Conector reto 1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Retângulo 18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Conector reto 2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Elipse 20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E50360-63F6-42D8-8D95-C51181B1DA46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2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Elipse 14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Conector reto 17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Retângulo 17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Conector reto 19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Conector reto 19"/>
          <p:cNvSpPr/>
          <p:nvPr/>
        </p:nvSpPr>
        <p:spPr>
          <a:xfrm>
            <a:off x="731196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Conector reto 23"/>
          <p:cNvSpPr/>
          <p:nvPr/>
        </p:nvSpPr>
        <p:spPr>
          <a:xfrm>
            <a:off x="7245360" y="0"/>
            <a:ext cx="0" cy="75564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64BB05-861E-4808-968F-71C967F57CB4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"/>
          <p:cNvSpPr/>
          <p:nvPr/>
        </p:nvSpPr>
        <p:spPr>
          <a:xfrm>
            <a:off x="0" y="-793800"/>
            <a:ext cx="10709280" cy="914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4768920" y="5722920"/>
            <a:ext cx="1458720" cy="158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576360" y="23760"/>
            <a:ext cx="9556560" cy="72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2280" bIns="0" anchor="ctr">
            <a:noAutofit/>
          </a:bodyPr>
          <a:p>
            <a:pPr algn="ctr"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4000" spc="-1" strike="noStrike">
                <a:solidFill>
                  <a:srgbClr val="009900"/>
                </a:solidFill>
                <a:latin typeface="Calibri"/>
              </a:rPr>
              <a:t>CONSELHO DE CLASSE PROGNÓSTICO 2023.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Pauta da Reunião: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1. Apresentação pela CTP da síntese dos dados coletados junto aos pais e alunos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2. Participação oral dos representantes de pais/responsáveis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3. Participação oral dos Professores Responsáveis por Turma: 3 min para cada docente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4. Planejamento de ações para o restante do semestre 2023.1 e para a segunda etapa do semestre letivo 2023.2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5. Outros pontos apresentados pela Chefia do 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600" spc="-1" strike="noStrike">
                <a:solidFill>
                  <a:srgbClr val="009900"/>
                </a:solidFill>
                <a:latin typeface="Calibri"/>
              </a:rPr>
              <a:t>                                          </a:t>
            </a:r>
            <a:r>
              <a:rPr b="1" lang="pt-BR" sz="3600" spc="-1" strike="noStrike">
                <a:solidFill>
                  <a:srgbClr val="009900"/>
                </a:solidFill>
                <a:latin typeface="Calibri"/>
              </a:rPr>
              <a:t>Data: </a:t>
            </a:r>
            <a:r>
              <a:rPr b="1" lang="pt-BR" sz="2800" spc="-1" strike="noStrike">
                <a:solidFill>
                  <a:srgbClr val="009900"/>
                </a:solidFill>
                <a:latin typeface="Calibri"/>
              </a:rPr>
              <a:t>19/04/202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Imagem 3" descr=""/>
          <p:cNvPicPr/>
          <p:nvPr/>
        </p:nvPicPr>
        <p:blipFill>
          <a:blip r:embed="rId1"/>
          <a:srcRect l="29811" t="9323" r="31829" b="32054"/>
          <a:stretch/>
        </p:blipFill>
        <p:spPr>
          <a:xfrm>
            <a:off x="309600" y="303120"/>
            <a:ext cx="7632720" cy="4338720"/>
          </a:xfrm>
          <a:prstGeom prst="rect">
            <a:avLst/>
          </a:prstGeom>
          <a:ln w="0">
            <a:noFill/>
          </a:ln>
        </p:spPr>
      </p:pic>
      <p:pic>
        <p:nvPicPr>
          <p:cNvPr id="380" name="Imagem 5" descr=""/>
          <p:cNvPicPr/>
          <p:nvPr/>
        </p:nvPicPr>
        <p:blipFill>
          <a:blip r:embed="rId2"/>
          <a:srcRect l="29811" t="44022" r="31155" b="30857"/>
          <a:stretch/>
        </p:blipFill>
        <p:spPr>
          <a:xfrm>
            <a:off x="4773600" y="4498920"/>
            <a:ext cx="592632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Imagem 3" descr=""/>
          <p:cNvPicPr/>
          <p:nvPr/>
        </p:nvPicPr>
        <p:blipFill>
          <a:blip r:embed="rId1"/>
          <a:srcRect l="29811" t="15307" r="31155" b="20090"/>
          <a:stretch/>
        </p:blipFill>
        <p:spPr>
          <a:xfrm>
            <a:off x="93600" y="15840"/>
            <a:ext cx="7777080" cy="4554720"/>
          </a:xfrm>
          <a:prstGeom prst="rect">
            <a:avLst/>
          </a:prstGeom>
          <a:ln w="0">
            <a:noFill/>
          </a:ln>
        </p:spPr>
      </p:pic>
      <p:pic>
        <p:nvPicPr>
          <p:cNvPr id="383" name="Imagem 5" descr=""/>
          <p:cNvPicPr/>
          <p:nvPr/>
        </p:nvPicPr>
        <p:blipFill>
          <a:blip r:embed="rId2"/>
          <a:srcRect l="29811" t="65557" r="31155" b="21287"/>
          <a:stretch/>
        </p:blipFill>
        <p:spPr>
          <a:xfrm>
            <a:off x="4773600" y="4641840"/>
            <a:ext cx="55450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5" name="Imagem 3" descr=""/>
          <p:cNvPicPr/>
          <p:nvPr/>
        </p:nvPicPr>
        <p:blipFill>
          <a:blip r:embed="rId1"/>
          <a:srcRect l="29811" t="9323" r="31155" b="36841"/>
          <a:stretch/>
        </p:blipFill>
        <p:spPr>
          <a:xfrm>
            <a:off x="236520" y="177840"/>
            <a:ext cx="6769080" cy="4176720"/>
          </a:xfrm>
          <a:prstGeom prst="rect">
            <a:avLst/>
          </a:prstGeom>
          <a:ln w="0">
            <a:noFill/>
          </a:ln>
        </p:spPr>
      </p:pic>
      <p:pic>
        <p:nvPicPr>
          <p:cNvPr id="386" name="Imagem 5" descr=""/>
          <p:cNvPicPr/>
          <p:nvPr/>
        </p:nvPicPr>
        <p:blipFill>
          <a:blip r:embed="rId2"/>
          <a:srcRect l="29811" t="44022" r="31155" b="36841"/>
          <a:stretch/>
        </p:blipFill>
        <p:spPr>
          <a:xfrm>
            <a:off x="4486320" y="4264200"/>
            <a:ext cx="5904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Imagem 3" descr=""/>
          <p:cNvPicPr/>
          <p:nvPr/>
        </p:nvPicPr>
        <p:blipFill>
          <a:blip r:embed="rId1"/>
          <a:srcRect l="29811" t="9323" r="31155" b="36841"/>
          <a:stretch/>
        </p:blipFill>
        <p:spPr>
          <a:xfrm>
            <a:off x="309600" y="393840"/>
            <a:ext cx="7272360" cy="4176720"/>
          </a:xfrm>
          <a:prstGeom prst="rect">
            <a:avLst/>
          </a:prstGeom>
          <a:ln w="0">
            <a:noFill/>
          </a:ln>
        </p:spPr>
      </p:pic>
      <p:pic>
        <p:nvPicPr>
          <p:cNvPr id="389" name="Imagem 5" descr=""/>
          <p:cNvPicPr/>
          <p:nvPr/>
        </p:nvPicPr>
        <p:blipFill>
          <a:blip r:embed="rId2"/>
          <a:srcRect l="29811" t="46412" r="31155" b="36841"/>
          <a:stretch/>
        </p:blipFill>
        <p:spPr>
          <a:xfrm>
            <a:off x="3405240" y="4570560"/>
            <a:ext cx="69850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1" name="Imagem 3" descr=""/>
          <p:cNvPicPr/>
          <p:nvPr/>
        </p:nvPicPr>
        <p:blipFill>
          <a:blip r:embed="rId1"/>
          <a:srcRect l="29811" t="8126" r="30482" b="24877"/>
          <a:stretch/>
        </p:blipFill>
        <p:spPr>
          <a:xfrm>
            <a:off x="249120" y="117360"/>
            <a:ext cx="6904080" cy="4986360"/>
          </a:xfrm>
          <a:prstGeom prst="rect">
            <a:avLst/>
          </a:prstGeom>
          <a:ln w="0">
            <a:noFill/>
          </a:ln>
        </p:spPr>
      </p:pic>
      <p:pic>
        <p:nvPicPr>
          <p:cNvPr id="392" name="Imagem 5" descr=""/>
          <p:cNvPicPr/>
          <p:nvPr/>
        </p:nvPicPr>
        <p:blipFill>
          <a:blip r:embed="rId2"/>
          <a:srcRect l="29811" t="46412" r="30482" b="24877"/>
          <a:stretch/>
        </p:blipFill>
        <p:spPr>
          <a:xfrm>
            <a:off x="4054320" y="4930920"/>
            <a:ext cx="65469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Imagem 3" descr=""/>
          <p:cNvPicPr/>
          <p:nvPr/>
        </p:nvPicPr>
        <p:blipFill>
          <a:blip r:embed="rId1"/>
          <a:srcRect l="29811" t="15307" r="31155" b="35779"/>
          <a:stretch/>
        </p:blipFill>
        <p:spPr>
          <a:xfrm>
            <a:off x="380880" y="465120"/>
            <a:ext cx="7201080" cy="4051440"/>
          </a:xfrm>
          <a:prstGeom prst="rect">
            <a:avLst/>
          </a:prstGeom>
          <a:ln w="0">
            <a:noFill/>
          </a:ln>
        </p:spPr>
      </p:pic>
      <p:pic>
        <p:nvPicPr>
          <p:cNvPr id="395" name="Imagem 5" descr=""/>
          <p:cNvPicPr/>
          <p:nvPr/>
        </p:nvPicPr>
        <p:blipFill>
          <a:blip r:embed="rId2"/>
          <a:srcRect l="30482" t="44018" r="30482" b="29664"/>
          <a:stretch/>
        </p:blipFill>
        <p:spPr>
          <a:xfrm>
            <a:off x="4054320" y="4516560"/>
            <a:ext cx="640872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Imagem 3" descr=""/>
          <p:cNvPicPr/>
          <p:nvPr/>
        </p:nvPicPr>
        <p:blipFill>
          <a:blip r:embed="rId1"/>
          <a:srcRect l="29811" t="9323" r="30482" b="43161"/>
          <a:stretch/>
        </p:blipFill>
        <p:spPr>
          <a:xfrm>
            <a:off x="236520" y="303120"/>
            <a:ext cx="7993080" cy="4195800"/>
          </a:xfrm>
          <a:prstGeom prst="rect">
            <a:avLst/>
          </a:prstGeom>
          <a:ln w="0">
            <a:noFill/>
          </a:ln>
        </p:spPr>
      </p:pic>
      <p:pic>
        <p:nvPicPr>
          <p:cNvPr id="398" name="Imagem 5" descr=""/>
          <p:cNvPicPr/>
          <p:nvPr/>
        </p:nvPicPr>
        <p:blipFill>
          <a:blip r:embed="rId2"/>
          <a:srcRect l="30284" t="49053" r="31356" b="36593"/>
          <a:stretch/>
        </p:blipFill>
        <p:spPr>
          <a:xfrm>
            <a:off x="3478320" y="4521240"/>
            <a:ext cx="691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0" name="Imagem 3" descr=""/>
          <p:cNvPicPr/>
          <p:nvPr/>
        </p:nvPicPr>
        <p:blipFill>
          <a:blip r:embed="rId1"/>
          <a:srcRect l="29811" t="18893" r="31155" b="26074"/>
          <a:stretch/>
        </p:blipFill>
        <p:spPr>
          <a:xfrm>
            <a:off x="309600" y="293760"/>
            <a:ext cx="9504360" cy="3946320"/>
          </a:xfrm>
          <a:prstGeom prst="rect">
            <a:avLst/>
          </a:prstGeom>
          <a:ln w="0">
            <a:noFill/>
          </a:ln>
        </p:spPr>
      </p:pic>
      <p:pic>
        <p:nvPicPr>
          <p:cNvPr id="401" name="Imagem 5" descr=""/>
          <p:cNvPicPr/>
          <p:nvPr/>
        </p:nvPicPr>
        <p:blipFill>
          <a:blip r:embed="rId2"/>
          <a:srcRect l="29811" t="35644" r="31829" b="21287"/>
          <a:stretch/>
        </p:blipFill>
        <p:spPr>
          <a:xfrm>
            <a:off x="309600" y="4240080"/>
            <a:ext cx="95043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3" name="Imagem 3" descr=""/>
          <p:cNvPicPr/>
          <p:nvPr/>
        </p:nvPicPr>
        <p:blipFill>
          <a:blip r:embed="rId1"/>
          <a:srcRect l="29138" t="57183" r="29811" b="5732"/>
          <a:stretch/>
        </p:blipFill>
        <p:spPr>
          <a:xfrm>
            <a:off x="534960" y="1582560"/>
            <a:ext cx="92073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525600" y="0"/>
            <a:ext cx="89168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9900"/>
                </a:solidFill>
                <a:latin typeface="Calibri"/>
              </a:rPr>
              <a:t>AÇÕES DESENVOLVIDAS PELA CT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65240" y="825480"/>
          <a:ext cx="10440720" cy="6950160"/>
        </p:xfrm>
        <a:graphic>
          <a:graphicData uri="http://schemas.openxmlformats.org/drawingml/2006/table">
            <a:tbl>
              <a:tblPr/>
              <a:tblGrid>
                <a:gridCol w="2119320"/>
                <a:gridCol w="2268360"/>
                <a:gridCol w="1589040"/>
                <a:gridCol w="1211400"/>
                <a:gridCol w="1663560"/>
                <a:gridCol w="1589040"/>
              </a:tblGrid>
              <a:tr h="6238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usa/ Medida de Intervenção do P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 da 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ável (ei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odo de Execu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Necessá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os de Avali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16404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9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mover momentos de atividades pedagógicas com as turmas Ingressantes dos Cursos Técnicos Integrados (2023.1), visando à permanência com êxit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em parceria com as coordenaçõ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cursos audiovisu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162240"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94, 21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dividuais. Medida de Intervenção: 0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tendimento pedagógico dos alunos avaliados no Conselho de Classe Deliberativo 2022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(apoio grêmio e coordenaçõ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gistro do quantitativo de atendimento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cesso SEI nº 23486.000023/2023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"/>
          <p:cNvSpPr/>
          <p:nvPr/>
        </p:nvSpPr>
        <p:spPr>
          <a:xfrm>
            <a:off x="0" y="-792000"/>
            <a:ext cx="10709280" cy="914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4768920" y="5722920"/>
            <a:ext cx="1458720" cy="158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689040" y="1230480"/>
            <a:ext cx="8692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2280" bIns="0" anchor="ctr">
            <a:noAutofit/>
          </a:bodyPr>
          <a:p>
            <a:pPr marL="12600">
              <a:lnSpc>
                <a:spcPts val="3285"/>
              </a:lnSpc>
              <a:spcBef>
                <a:spcPts val="488"/>
              </a:spcBef>
              <a:tabLst>
                <a:tab algn="l" pos="0"/>
                <a:tab algn="l" pos="12600"/>
                <a:tab algn="l" pos="1054080"/>
                <a:tab algn="l" pos="2097000"/>
                <a:tab algn="l" pos="3139920"/>
                <a:tab algn="l" pos="4183200"/>
                <a:tab algn="l" pos="5226120"/>
                <a:tab algn="l" pos="6269040"/>
                <a:tab algn="l" pos="7311960"/>
                <a:tab algn="l" pos="8354880"/>
                <a:tab algn="l" pos="9398160"/>
                <a:tab algn="l" pos="10441080"/>
                <a:tab algn="l" pos="10782360"/>
              </a:tabLst>
            </a:pPr>
            <a:r>
              <a:rPr b="1" lang="pt-BR" sz="3200" spc="-1" strike="noStrike">
                <a:solidFill>
                  <a:srgbClr val="00b050"/>
                </a:solidFill>
                <a:latin typeface="Cambria"/>
                <a:ea typeface="Microsoft YaHei"/>
              </a:rPr>
              <a:t>ATRIBUIÇÕES DO C. CLASSE PROGNÓSTIC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601560" y="2495520"/>
            <a:ext cx="979344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spAutoFit/>
          </a:bodyPr>
          <a:p>
            <a:pPr marL="11160" algn="just">
              <a:lnSpc>
                <a:spcPct val="126000"/>
              </a:lnSpc>
              <a:spcBef>
                <a:spcPts val="88"/>
              </a:spcBef>
              <a:tabLst>
                <a:tab algn="l" pos="0"/>
                <a:tab algn="l" pos="46836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agnosticar problemas cotidianos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u não,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que interferem no processo de ensino e aprendizagem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. O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esultados de desempenho acadêmico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devem ser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dentificados e analisados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m vistas à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romoção de condições de recuperação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 eventuai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ficuldades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e defasagen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e aprendizagem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visando à superação da retenção e evasão estudantil em cada etapa do período letivo.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534960" y="303120"/>
            <a:ext cx="891684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36520" y="754200"/>
          <a:ext cx="10369440" cy="5621040"/>
        </p:xfrm>
        <a:graphic>
          <a:graphicData uri="http://schemas.openxmlformats.org/drawingml/2006/table">
            <a:tbl>
              <a:tblPr/>
              <a:tblGrid>
                <a:gridCol w="2104920"/>
                <a:gridCol w="2252880"/>
                <a:gridCol w="1577880"/>
                <a:gridCol w="1203480"/>
                <a:gridCol w="1652400"/>
                <a:gridCol w="1577880"/>
              </a:tblGrid>
              <a:tr h="5032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usa/ Medida de Intervenção do P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 da 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ável (ei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odo de Execu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Necessá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os de Avali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256824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MI9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mover [...] </a:t>
                      </a:r>
                      <a:r>
                        <a:rPr b="1" lang="pt-BR" sz="1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Reuniões de pais no início de cada período letivo para apresentar o período letivo que o filho cursar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ício do 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cursos audiovisu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25495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dividua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I24. Incentivar e acompanhar a participação dos estudantes em programas de monitorias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Projeto Círculos para despert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Quantitativo do atendi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eedback / relato dos estudantes atendid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893960" y="507960"/>
            <a:ext cx="7529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200" spc="-1" strike="noStrike">
                <a:solidFill>
                  <a:srgbClr val="00b050"/>
                </a:solidFill>
                <a:latin typeface="Cambria"/>
                <a:ea typeface="Microsoft YaHei"/>
              </a:rPr>
              <a:t>ATRIBUIÇÕES DO PR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516040" y="5381640"/>
            <a:ext cx="397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260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10h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2516040" y="6305400"/>
            <a:ext cx="39384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t">
            <a:spAutoFit/>
          </a:bodyPr>
          <a:p>
            <a:pPr marL="12600">
              <a:lnSpc>
                <a:spcPct val="101000"/>
              </a:lnSpc>
              <a:spcBef>
                <a:spcPts val="74"/>
              </a:spcBef>
              <a:tabLst>
                <a:tab algn="l" pos="0"/>
                <a:tab algn="l" pos="1260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11h  15h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200160" y="192240"/>
            <a:ext cx="1514520" cy="1353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2" name="Rectangle 5" descr=""/>
          <p:cNvPicPr/>
          <p:nvPr/>
        </p:nvPicPr>
        <p:blipFill>
          <a:blip r:embed="rId2"/>
          <a:stretch/>
        </p:blipFill>
        <p:spPr>
          <a:xfrm>
            <a:off x="1006560" y="993600"/>
            <a:ext cx="8972640" cy="675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534960" y="303120"/>
            <a:ext cx="93520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600" spc="-1" strike="noStrike">
                <a:solidFill>
                  <a:srgbClr val="00b050"/>
                </a:solidFill>
                <a:latin typeface="Cambria"/>
                <a:ea typeface="Microsoft YaHei"/>
              </a:rPr>
              <a:t>Professores Responsáveis por Turma 2023.1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4" name="Imagem 3" descr=""/>
          <p:cNvPicPr/>
          <p:nvPr/>
        </p:nvPicPr>
        <p:blipFill>
          <a:blip r:embed="rId1"/>
          <a:srcRect l="27794" t="15307" r="25774" b="12909"/>
          <a:stretch/>
        </p:blipFill>
        <p:spPr>
          <a:xfrm>
            <a:off x="165240" y="1690560"/>
            <a:ext cx="1000908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65240" y="3201840"/>
          <a:ext cx="10369440" cy="4569120"/>
        </p:xfrm>
        <a:graphic>
          <a:graphicData uri="http://schemas.openxmlformats.org/drawingml/2006/table">
            <a:tbl>
              <a:tblPr/>
              <a:tblGrid>
                <a:gridCol w="1728720"/>
                <a:gridCol w="1727280"/>
                <a:gridCol w="1728720"/>
                <a:gridCol w="1728720"/>
                <a:gridCol w="1727280"/>
                <a:gridCol w="1728720"/>
              </a:tblGrid>
              <a:tr h="7369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ausa/ Medida de Intervenção do P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escrição da a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esponsável (ei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eríodo de Execu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ecursos Necessár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ssos de Avalia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83220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62. Ampliar, acompanhar e avaliar o desenvolvimento de outros programas e ações que favoreçam o sucesso da aprendizagem discent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Professor Responsável por Turma de cada turma e demais docent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stante do semestre 2023.1 e todo o semestre letivo 2023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416" name="Rectangle 1"/>
          <p:cNvSpPr/>
          <p:nvPr/>
        </p:nvSpPr>
        <p:spPr>
          <a:xfrm>
            <a:off x="165240" y="338760"/>
            <a:ext cx="9864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LANEJAMENTO PARA O SEMESTRE LETIVO 2023.2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ome do Professor Responsável por Turma:  ____________________________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urso/ Turma: _________________________________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1.Açã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Realizar uma atividade integrada e interdisciplinar utilizando a Ferramenta Google Mee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) Todas as turmas    (   ) Turma (s) específica (s). Qual (is)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que fator (es) qualitativo (s) para a permanência e êxito esta atividade se relaciona?      (   ) Fator individual     (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) Fator interno à instituição    (    ) Fator externo à instituição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aixaDeTexto 2"/>
          <p:cNvSpPr/>
          <p:nvPr/>
        </p:nvSpPr>
        <p:spPr>
          <a:xfrm>
            <a:off x="453960" y="1762200"/>
            <a:ext cx="9072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rt.45 Os encaminhamentos feitos nas reuniões de Conselho de Classe prognóstico deverão ser levados à turma pelo seu docente representante, pelo Coordenador do Curso ou pela CTP, conforme acordado nas reuniões de Conselho de Class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4960" y="302760"/>
            <a:ext cx="9136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entury Schoolbook"/>
              </a:rPr>
              <a:t>PROFESSOR(A) RESPONSÁVEL POR TURM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34600" y="1763640"/>
            <a:ext cx="956772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entury Schoolbook"/>
              </a:rPr>
              <a:t>Apresentação das ações executadas na etapa 1, bem como, avaliação global da turma e sugestões aos demais docentes de cada turm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3441240"/>
            <a:ext cx="8999280" cy="2087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VAMOS EM FRENTE!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SEGUIMOS COLABORANDO...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ABRAÇOS DA EQUIPE CTP</a:t>
            </a:r>
            <a:endParaRPr b="0" lang="en-US" sz="3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2674440" y="5513400"/>
            <a:ext cx="72234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21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CaixaDeTexto 2" descr=""/>
          <p:cNvPicPr/>
          <p:nvPr/>
        </p:nvPicPr>
        <p:blipFill>
          <a:blip r:embed="rId1"/>
          <a:stretch/>
        </p:blipFill>
        <p:spPr>
          <a:xfrm>
            <a:off x="615960" y="1011240"/>
            <a:ext cx="924732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92040" y="1114560"/>
          <a:ext cx="10071000" cy="6443640"/>
        </p:xfrm>
        <a:graphic>
          <a:graphicData uri="http://schemas.openxmlformats.org/drawingml/2006/table">
            <a:tbl>
              <a:tblPr/>
              <a:tblGrid>
                <a:gridCol w="2014560"/>
                <a:gridCol w="2014560"/>
                <a:gridCol w="2013120"/>
                <a:gridCol w="2014560"/>
                <a:gridCol w="2014200"/>
              </a:tblGrid>
              <a:tr h="1105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4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umento de curso dando mais oportunid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poio e orientação constante dos professores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spaço prático para aplicação das ativ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eocupação que nós pais temos em relação aos transportes (deslocamento) nos dias que eles estudam meio perío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daptação ao sistema de ensino que diferencia do sistema escolar anterior (9º ano) fundamen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 oportunidades dadas a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interação do corpo docente e dis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oportunidade dada aos pais para participação junto a gestão da esco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Gestão atuante visando os alunos e melhoria constante das dependênc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ontualidade e compromi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teração e proximidade constante em diálogos e dúvid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92040" y="1114560"/>
          <a:ext cx="9630000" cy="5894280"/>
        </p:xfrm>
        <a:graphic>
          <a:graphicData uri="http://schemas.openxmlformats.org/drawingml/2006/table">
            <a:tbl>
              <a:tblPr/>
              <a:tblGrid>
                <a:gridCol w="1925640"/>
                <a:gridCol w="1925640"/>
                <a:gridCol w="1927440"/>
                <a:gridCol w="1925640"/>
                <a:gridCol w="1925640"/>
              </a:tblGrid>
              <a:tr h="6404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3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auxílio de alunos em relação à atividades que exigem o uso da internet e acesso aos portais como o Qacadêmico e a disponibilidade de materiais de apoio na biblioteca da esco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os estudantes compreenderem como funcionam os meios de avaliação do campus (como provas) e a questão de organização e otimização de tem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integração de estudantes interessados em projetos do campus e a criação de grupos de estudos inter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riação de mais projetos que envolvam a participação de alunos e a maior divulgação des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centivar os alunos a participar de atividades extracurriculares que irão facilitar na naprendizagem (aulas extras, recorrer aos estudantes mais experientes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96920" y="1114560"/>
          <a:ext cx="10463040" cy="6456240"/>
        </p:xfrm>
        <a:graphic>
          <a:graphicData uri="http://schemas.openxmlformats.org/drawingml/2006/table">
            <a:tbl>
              <a:tblPr/>
              <a:tblGrid>
                <a:gridCol w="2092320"/>
                <a:gridCol w="2092320"/>
                <a:gridCol w="2093760"/>
                <a:gridCol w="2092320"/>
                <a:gridCol w="2092320"/>
              </a:tblGrid>
              <a:tr h="11088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43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ar condição ao aluno de entender o processo educacional como ferramenta de crescimento tanto de ordem cultural e intelectual, quanto de natureza moral, visto que este processo deve formar não apenas um profissional em sua área de atuação, mas também cidadãos responsáveis pela criação de uma sociedade mais equilibrad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siderando o público alvo do IFCE/Caucaia, o deslocamento até a unidade escolar seria um ponto importante. A instabilidade no serviço de transporte escolar afeta o processo de aprendizado – vide horários das rotas, que afetam em especial o horário de término da aula. Do ponto de vista pedagógico, a falta do material didático que ainda não foi entregue aos alunos, vem causando certa perda de referência na assimilação dos conteúdos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devido engajamento da turma no processo educ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devido (e correto gerenciamento) dos recursos envolvidos no bom funcionamento da institui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comprometimento com seu papel de EDUCADOR – não apenas de transmissor de conteú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28520" y="103320"/>
          <a:ext cx="10442520" cy="7335720"/>
        </p:xfrm>
        <a:graphic>
          <a:graphicData uri="http://schemas.openxmlformats.org/drawingml/2006/table">
            <a:tbl>
              <a:tblPr/>
              <a:tblGrid>
                <a:gridCol w="2611440"/>
                <a:gridCol w="2610000"/>
                <a:gridCol w="2611440"/>
                <a:gridCol w="2609640"/>
              </a:tblGrid>
              <a:tr h="6109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ragilidades em relação 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ugestõ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É a transportes escolar nos dias de meio período pois os alunos so tem escolares se estudarem o período to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inda não conheç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interessa pela adaptação ao ens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inda não conheç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ara mim seria ótimo o estudo integral todos os d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207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interesse pela adaptação ao ens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necer mais fardas e melhoria constante nos dependências físic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assessoramento e excesso de atividades no início / fase adaptaçã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necimento de fardas necessárias, alimentação diferenciada e bem nutricional. Fornecer itens de estudo e apoio pedagógico constant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08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unos sem acesso a informações, sem uma rotina fixa de estudos e não presentes em aul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m relação a quantidade de almoço e merenda (alguns alunos que ficam por último na fila acabaram recebendo menos alimento) e melhor cardápio para os lanches da manhã e tarde (mais variado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divulgação de livros [palavra ilegível] para facilitar os estudos e compreens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criação de projetos capazes de conectar o conhecimento e a criatividade dos alunos, incentivando-os ao estudo de maneira dinâmic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128520" y="106200"/>
          <a:ext cx="10442520" cy="7104240"/>
        </p:xfrm>
        <a:graphic>
          <a:graphicData uri="http://schemas.openxmlformats.org/drawingml/2006/table">
            <a:tbl>
              <a:tblPr/>
              <a:tblGrid>
                <a:gridCol w="2611440"/>
                <a:gridCol w="2610000"/>
                <a:gridCol w="2611440"/>
                <a:gridCol w="2609640"/>
              </a:tblGrid>
              <a:tr h="3661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ragilidades em relação 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ugestõ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2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falta de foco no processo educacional que sobre interferência de outros fatores, em especial uso inadequado dos meios de comunicação via intern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rcebo, de forma pontual, indefinição nas decisões relacionadas a algumas questões pedagógicas. Vide caso dos professores de Sociologia e História (1º período de Química), que estiveram ausentes por diversas aulas seguid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enho tomado conhecimento de que o controle de turma por alguns professores tem deixado a desejar. Alunos dispersos, conversas paralelas, uso de celular em sala parecem estar passando despercebido por alguns professor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hecer o aluno, trabalhar com um sistema educacional, criar condições para o engajamento, observar as tendênci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tes de qualquer coisa, um trabalho conjunto entre família e comunidade escolar na conscientização da importância do processo educacional como ferramenta transformadora da sociedade, destacando na prática, casos de sucesso daqueles que já passaram pela instituiçã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52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b050"/>
                </a:solidFill>
                <a:latin typeface="Century Schoolbook"/>
              </a:rPr>
              <a:t>PARTICIPAÇÃO ESTUDANTIL (2023.1)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Imagem 4" descr=""/>
          <p:cNvPicPr/>
          <p:nvPr/>
        </p:nvPicPr>
        <p:blipFill>
          <a:blip r:embed="rId1"/>
          <a:srcRect l="29138" t="20090" r="31155" b="20090"/>
          <a:stretch/>
        </p:blipFill>
        <p:spPr>
          <a:xfrm>
            <a:off x="236520" y="793800"/>
            <a:ext cx="6769080" cy="4424400"/>
          </a:xfrm>
          <a:prstGeom prst="rect">
            <a:avLst/>
          </a:prstGeom>
          <a:ln w="0">
            <a:noFill/>
          </a:ln>
        </p:spPr>
      </p:pic>
      <p:pic>
        <p:nvPicPr>
          <p:cNvPr id="377" name="Imagem 6" descr=""/>
          <p:cNvPicPr/>
          <p:nvPr/>
        </p:nvPicPr>
        <p:blipFill>
          <a:blip r:embed="rId2"/>
          <a:srcRect l="29811" t="57183" r="33177" b="20090"/>
          <a:stretch/>
        </p:blipFill>
        <p:spPr>
          <a:xfrm>
            <a:off x="5349960" y="4210200"/>
            <a:ext cx="476568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24T22:02:27Z</dcterms:created>
  <dc:creator>Katharine Magalhães</dc:creator>
  <dc:description/>
  <cp:keywords>DAEAvQC_sx0 BACRGa6bcSE</cp:keywords>
  <dc:language>en-US</dc:language>
  <cp:lastModifiedBy>Reginaldo</cp:lastModifiedBy>
  <dcterms:modified xsi:type="dcterms:W3CDTF">2023-07-17T11:53:43Z</dcterms:modified>
  <cp:revision>91</cp:revision>
  <dc:subject/>
  <dc:title>Encontro Pedagógico 2020.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0-07-01T00:00:00Z</vt:filetime>
  </property>
  <property fmtid="{D5CDD505-2E9C-101B-9397-08002B2CF9AE}" pid="3" name="Creator">
    <vt:lpwstr>Canva</vt:lpwstr>
  </property>
  <property fmtid="{D5CDD505-2E9C-101B-9397-08002B2CF9AE}" pid="4" name="LastSaved">
    <vt:filetime>2020-09-24T00:00:00Z</vt:filetime>
  </property>
</Properties>
</file>